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DBD-EBA9-4820-9B36-9FC2B535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DF1-64D0-4A6D-A950-4A09542F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FE5-01F6-4353-99BE-8213C0B9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04C-15C1-4C90-B419-2C87327F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521-A8E6-42FF-A367-DA4F8E31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907C-304B-48AC-BD0E-03AF450C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517D-A9D7-4A0D-8922-8AE1F47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49CF-3FE6-4ADA-93FF-F150FF0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116-41EB-4B07-9DAA-2FA84061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263B-A3D0-4146-BF35-8A5E429B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260-8450-4515-A641-03E08E6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6C1-45B5-4FD6-936C-63BC835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5EAD-751C-4A09-B0C8-6C0915B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921-C68B-442D-B480-49971DB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45F-B618-44C6-9DE4-7D49B7D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BB73-69A0-46EF-9E27-5263E242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944-7D8B-4996-995E-A54F620A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179-06D0-41B8-B19A-0FA5B88F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3CB-9146-4DBD-B0A3-C7CF168F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39F-56A3-40BA-B275-674B8C8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AF0-DB2D-4E00-BB3F-6CEACAE3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170-0382-4C1C-9224-AD2C336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273-BD42-4F70-9EE4-336654B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BF6-9E8E-40C5-ABAE-E4FDFEB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1B2-604F-4963-A5E0-1E685D5FCD8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A4B-6E3D-4E86-A1DB-513BDBB5AA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2000" y="1052640"/>
            <a:ext cx="6483240" cy="480060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قلبي مستعد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2700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لْبي مُسْتَعِدٌّ يا ألله إنّي أُرَنِّمُ وَأُشيدُ، إسْتَيقِظ يا مَجْدي إسْتَيْقِظْ أَيُّها الْعودُ والكِنّارَةُ سَأَسْتَيْقِظُ سَحَراً.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36440"/>
            <a:ext cx="8244000" cy="11615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عْتَرِفُ لَكَ فِي الشّعوبِ أَيُّها الرَّبُ وَأُشيدُ لَكَ فِي الأُمَمْ، فَقَدْ عَظُمَتْ رَحْمَتُكَ وَحَقُكَ إلى الْغُيوم؛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36440"/>
            <a:ext cx="9144000" cy="14907240"/>
          </a:xfrm>
          <a:prstGeom prst="rect">
            <a:avLst/>
          </a:prstGeom>
          <a:noFill/>
          <a:ln w="0">
            <a:noFill/>
          </a:ln>
          <a:effectLst>
            <a:outerShdw dist="52300" dir="1536356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ْتَفِعْ على السّماواتِ يا ألله وَلْيَكُنْ مَجْدُكَ على جَميعِ الأرض لِكَيْ يَخْلُصَ أَوِدّاؤكَ وَخلِّصْ بيَمينِكَ واسْتَجِبْ ل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1:21:00Z</dcterms:created>
  <dc:creator>Charbel Azar</dc:creator>
  <dc:description/>
  <dc:language>en-US</dc:language>
  <cp:lastModifiedBy>-</cp:lastModifiedBy>
  <dcterms:modified xsi:type="dcterms:W3CDTF">2003-01-09T15:02:55Z</dcterms:modified>
  <cp:revision>7</cp:revision>
  <dc:subject/>
  <dc:title>Slide 1</dc:title>
</cp:coreProperties>
</file>